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8CAA-177F-446E-9A86-50A6275E5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5B71-ABAF-4311-A076-DC54AD34C3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FD0-07ED-4AF8-B17B-41603917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0CC-5CA2-461F-BEBA-7B8879EE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638-F58D-4ED8-8C58-9DAD0125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75B-17A7-4C25-B941-FE75F0E6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5149-9248-4EF6-A93A-01811CFA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047C-CB97-4429-A051-1A15CFE3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93AE-4890-45E7-BE2D-1D116688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32D6-F498-40CC-9E19-4E2BA78A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B7CE-6CA9-44E9-92CE-ABCBC9E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5DC6-46DD-4637-89FB-CF238C4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F719-E553-485D-BDFF-E1EF5FD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169-AB5F-4A88-A468-787CEB02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31FE-0C0D-48E1-85C9-607111A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C9B5-68FF-44BE-BFEF-A355C416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2E62-6F50-4383-AC7A-CC3C1BD3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696F-1875-4008-87BE-9D4BD60C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6824-8E20-4952-9862-6BB61F99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625-F05C-4C26-BC92-C558C174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001-9275-4C68-94DA-10309FA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A07-41FC-491A-8CB4-4E7C854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E75-C5CB-4C09-9D64-B4FEFCB0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D03-F79C-4508-8D89-7DF391BC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55D-BA14-4213-B23A-1F00A04F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981-63E7-4993-858E-1DEB83F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F6F-3666-4D7D-87F4-E2BDB2F08A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1B13-3623-4453-9AE7-6BAD67A58E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xonlibrary.blogspot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oheisel@staunton.k12.va.us?subject=We%20Are%20All%20Authors%20presentation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We Are All Author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ile Hei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Arts in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2"/>
          <p:cNvGrpSpPr/>
          <p:nvPr/>
        </p:nvGrpSpPr>
        <p:grpSpPr>
          <a:xfrm>
            <a:off x="990720" y="2286000"/>
            <a:ext cx="7086600" cy="1974960"/>
            <a:chOff x="990720" y="2286000"/>
            <a:chExt cx="7086600" cy="1974960"/>
          </a:xfrm>
        </p:grpSpPr>
        <p:pic>
          <p:nvPicPr>
            <p:cNvPr id="108" name="Picture 27" descr="MCj04382190000[1]"/>
            <p:cNvPicPr/>
            <p:nvPr/>
          </p:nvPicPr>
          <p:blipFill>
            <a:blip r:embed="rId1"/>
            <a:stretch/>
          </p:blipFill>
          <p:spPr>
            <a:xfrm>
              <a:off x="6416640" y="2362320"/>
              <a:ext cx="1660680" cy="18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3" descr="MCj04382290000[1]"/>
            <p:cNvPicPr/>
            <p:nvPr/>
          </p:nvPicPr>
          <p:blipFill>
            <a:blip r:embed="rId2"/>
            <a:stretch/>
          </p:blipFill>
          <p:spPr>
            <a:xfrm>
              <a:off x="2362320" y="2286000"/>
              <a:ext cx="289548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4" descr="MCj04382310000[1]"/>
            <p:cNvPicPr/>
            <p:nvPr/>
          </p:nvPicPr>
          <p:blipFill>
            <a:blip r:embed="rId3"/>
            <a:stretch/>
          </p:blipFill>
          <p:spPr>
            <a:xfrm>
              <a:off x="5181840" y="2362320"/>
              <a:ext cx="1501560" cy="18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5" descr="MCj04382390000[1]"/>
            <p:cNvPicPr/>
            <p:nvPr/>
          </p:nvPicPr>
          <p:blipFill>
            <a:blip r:embed="rId4"/>
            <a:stretch/>
          </p:blipFill>
          <p:spPr>
            <a:xfrm>
              <a:off x="990720" y="2286000"/>
              <a:ext cx="183204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33"/>
          <p:cNvSpPr/>
          <p:nvPr/>
        </p:nvSpPr>
        <p:spPr>
          <a:xfrm>
            <a:off x="7086960" y="4419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ners work together to choose 3 authors they would like to research.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s self-assess their collaboration skills individually and compare to their partner’s assessment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5800" y="2286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e-Assessment of Team Collabor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327640" y="654192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am Collaboration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6"/>
          <p:cNvGraphicFramePr/>
          <p:nvPr/>
        </p:nvGraphicFramePr>
        <p:xfrm>
          <a:off x="5410080" y="594360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9436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-Solving/ Pati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all project work, students will flip a red/green card to the red side when they need help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continue to work until help arri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students solve the problem (before or after help arrives), they flip their red card back to the green s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earch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search identified web sites to find personal characteristics about one of the three authors they ch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read and interpret nonfiction biographical information to identify any of the author’s characteristics that might also be true for a student in their cla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blog relevant information, using their own words and citing the web address of their 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7920"/>
            <a:ext cx="198108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e the sample student blog a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dixonlibrary.blogspot.com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rcRect l="24375" t="16001" r="23752" b="10001"/>
          <a:stretch/>
        </p:blipFill>
        <p:spPr>
          <a:xfrm>
            <a:off x="2362320" y="762120"/>
            <a:ext cx="6324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logging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should read and respond to the blogs of othe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should comment in the blog when they see that the author they are researching is similar to the author another group is resear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students have posted something about their author, they can use the citation links from other students to read about other auth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amwork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blogging session, students will individually self-assess the team’s collaboration sk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use the same form they used in the pre-assessment of team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responds &amp; then compares his or her response to partner’s response.  Discuss similarities &amp; differ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175000" y="609588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am Collaboration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7"/>
          <p:cNvGraphicFramePr/>
          <p:nvPr/>
        </p:nvGraphicFramePr>
        <p:xfrm>
          <a:off x="4952880" y="5638680"/>
          <a:ext cx="99072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638680"/>
                    <a:ext cx="99072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unication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teams also self-assess the content of their blog about the characteristics of the author they researc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uses the same form to assess the content of their blo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class sessions, teacher and students will meet to compare the teacher and student assessments and develop plan of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76080" y="5638680"/>
            <a:ext cx="23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og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4267080" y="5334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334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ilding Communication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teams will repeat this entire cycle of research, blogging, assessing, and conferencing three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second and third conference, teacher and students will compare assessments to previous assessments to encourage students to be accountable for self-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27640" y="5791320"/>
            <a:ext cx="229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og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267080" y="5334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334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ganizing Infor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creates their own a graphic organizer comparing characteristics of all the famous authors researched by the entire class to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assess their graphic organizer using a checklist.  Teacher will assess using the same checklist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783840" y="59436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8"/>
          <p:cNvGraphicFramePr/>
          <p:nvPr/>
        </p:nvGraphicFramePr>
        <p:xfrm>
          <a:off x="6172200" y="525780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2578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Student Graphic Organizer &amp; Teacher Assess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16252" t="22762" r="21877" b="10001"/>
          <a:stretch/>
        </p:blipFill>
        <p:spPr>
          <a:xfrm>
            <a:off x="304920" y="1828800"/>
            <a:ext cx="7404120" cy="5029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rcRect l="51463" t="26003" r="10588" b="43601"/>
          <a:stretch/>
        </p:blipFill>
        <p:spPr>
          <a:xfrm>
            <a:off x="5334120" y="4876920"/>
            <a:ext cx="3652560" cy="182880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066680"/>
          <a:ext cx="7543800" cy="5516640"/>
        </p:xfrm>
        <a:graphic>
          <a:graphicData uri="http://schemas.openxmlformats.org/drawingml/2006/table">
            <a:tbl>
              <a:tblPr/>
              <a:tblGrid>
                <a:gridCol w="2514600"/>
                <a:gridCol w="5029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sential Question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you be famou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t Question(s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imilarities and differences between the personalities and preferences of famous authors, illustrators, and of our classmate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is it necessary to cite the source of our information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ent Question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reliable is the information on the internet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I summarize information and write it in my own word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can I organize and plan for writing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I work politely and effectively with other student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61"/>
          <p:cNvSpPr/>
          <p:nvPr/>
        </p:nvSpPr>
        <p:spPr>
          <a:xfrm>
            <a:off x="838080" y="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e Are All Auth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riting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uses their graphic organizer to write a paragraph expl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y I can become a famous author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assess their paragraph using a checklist.  Teacher will the paragraph assess using the same check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783840" y="59436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5791320" y="57913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791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Student Paragraph &amp; Teacher Assess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rcRect l="51463" t="55138" r="10588" b="17003"/>
          <a:stretch/>
        </p:blipFill>
        <p:spPr>
          <a:xfrm>
            <a:off x="5181480" y="2819520"/>
            <a:ext cx="3652920" cy="167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rcRect l="0" t="26003" r="50917" b="17003"/>
          <a:stretch/>
        </p:blipFill>
        <p:spPr>
          <a:xfrm>
            <a:off x="304920" y="20574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rcRect l="51463" t="26003" r="10588" b="66405"/>
          <a:stretch/>
        </p:blipFill>
        <p:spPr>
          <a:xfrm>
            <a:off x="5181480" y="2209680"/>
            <a:ext cx="3652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685800" y="2286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inal Assessment of Information Literacy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answer the pre-assessment question again with a written respon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trust all information on the internet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need to “cite” your source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23680" y="6019920"/>
            <a:ext cx="34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net Reliability Assessment Check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4343400" y="57913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7913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 rot="10800000">
            <a:off x="0" y="0"/>
            <a:ext cx="1143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Sample Student Response &amp; Teacher Assessment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0" t="26003" r="51876" b="28001"/>
          <a:stretch/>
        </p:blipFill>
        <p:spPr>
          <a:xfrm>
            <a:off x="1066680" y="228600"/>
            <a:ext cx="5257800" cy="314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rcRect l="50627" t="26003" r="2498" b="30000"/>
          <a:stretch/>
        </p:blipFill>
        <p:spPr>
          <a:xfrm>
            <a:off x="3429000" y="3505320"/>
            <a:ext cx="5715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iated In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reading below grade level will be paired with a student who reads at or above grade-level, encouraging the capable reader to read the information aloud to their part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ppropriate, videos of author interviews on web sites will be recommended to students, so they can listen to the author tell about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vanced Learn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are advanced learners will be paired up together and encouraged to make deeper connections between one favorite author and themselv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find very specific details that demonstrate a high level of understanding, I will email their comments to the author they chose as the most similar to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 Learning P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80880" y="1905120"/>
            <a:ext cx="83822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uters and the internet offers students opportunities for all types of learner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Visu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earners will see images on the computer scre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uditor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earners will enjoy talking with their partners and working as a tea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Kinestheti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earners will enjoy using the keyboard to blog, an uncommon activity for beginning third grade stud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 Types of Thin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380880" y="19051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Left brain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will enjoy all the checklists, procedures, and multiple steps that guide students through the projec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Right brain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will enjoy blogging, scanning randomly around websites, and the open-endedness of finding characteristics of famous autho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ommodations for Different Types of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457200" y="1905120"/>
            <a:ext cx="81532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many, but not all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ward Gardiner’s Multiple Intellig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utilized in this project, the overall goal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Are All Auth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for students to understand that our world is filled with diversity. My mess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Everyone has the potential to be great!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nk you for viewing my presentation.  Comments are always appreciated. 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ile Heisel, Librarian at Dixon</a:t>
            </a:r>
            <a:br>
              <a:rPr sz="4400"/>
            </a:b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oheisel@staunton.k12.va.u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ork with a partner to research information about the interests and characteristics of their favorite auth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log to each other to share what they learn, citing their sour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compare the information they learn about their author to other groups’ authors and to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out this process, students will learn about reliability of internet resources, reasons to cite source of information, and how to bl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nglish SOL 3.6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student will continue to read and demonstrate comprehension of nonfic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ke connections between previous experiences and reading selec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k and answer questions about what is re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raw conclu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rganize information and events logicall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ummarize major points found in nonfiction materia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pare and contrast the lives of two persons as described in biographies and/or autobiograph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b2b2b2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Century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on and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ulating thoughts and ideas clearly and effectively through wri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ng ability to work effectively with diverse te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ing flexibility and willingness to be helpful in making necessary compromises to accomplish a common go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ing shared responsibility for collaborative 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b2b2b2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Century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essing a fundamental understanding of the ethical/legal issues surrounding the access and use of informa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b2b2b2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Century Skil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T (Information, Communications and Technology) 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digital technology, communication tools and/or networks appropriately to access, manage, integrate, evaluate, and create information in order to function in a knowledge econo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echnology as a tool to research, organize, evaluate and communicate information, and the possession of a fundamental understanding of the ethical/legal issues surrounding the access and use of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Learning Objectives for Stude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nonfiction information from a web page, locate relevant information, communicate to others, analyze facts, draw conclusi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ideas through writing using appropriate spelling, grammar, &amp; punc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cooperatively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at not all information on the internet is reli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e source of information, write using one’s own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914400" y="457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e-Assessment of Information Lite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057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individually write to answer these questions: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3504960"/>
            <a:ext cx="807732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you think you can trust all information on the interne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think I might want you to “cite” your source?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efine “cite” for the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322600" y="649116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net Reliability Assessment checkl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7"/>
          <p:cNvGraphicFramePr/>
          <p:nvPr/>
        </p:nvGraphicFramePr>
        <p:xfrm>
          <a:off x="5334120" y="586728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31:32Z</dcterms:created>
  <dc:creator>Odile Heisel</dc:creator>
  <dc:description/>
  <dc:language>en-US</dc:language>
  <cp:lastModifiedBy>oheisel</cp:lastModifiedBy>
  <dcterms:modified xsi:type="dcterms:W3CDTF">2009-04-19T21:17:17Z</dcterms:modified>
  <cp:revision>35</cp:revision>
  <dc:subject/>
  <dc:title>We Are All Authors</dc:title>
</cp:coreProperties>
</file>